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A04EF-4372-4D53-B841-BDAA174CF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C7AEC-138C-4D3B-A9FE-C336BEF0C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9237F-FCAF-4CC7-A053-AD70C7F00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0D0DC-D66C-4593-A093-719625BBD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6529C-A07E-4119-81CE-AB035F5DC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6493A-E5C5-4549-9D01-1311B9BDF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EF759-6A01-4F54-9F20-7FA79AB1E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E4448-8EAB-45EC-873B-54E54F906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54DA3-8500-43EE-91C1-7B11D96F1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96B26-FA13-4EB9-957C-C284A93E7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DCCFA-A671-4B83-B867-C2BE0E725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8C60C-69DF-49A6-AC78-C64D08C8A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7CE9-B387-40F0-B8C9-5AE4B4973E71}"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250920" y="333360"/>
            <a:ext cx="865512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Бухарский  Медицинский  Институт</a:t>
            </a:r>
            <a:endPar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имени  Абу  Али  ибн  Сино</a:t>
            </a:r>
            <a:endPar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42" name="WordArt 3"/>
          <p:cNvSpPr txBox="1"/>
          <p:nvPr/>
        </p:nvSpPr>
        <p:spPr>
          <a:xfrm>
            <a:off x="533520" y="2349360"/>
            <a:ext cx="8610480" cy="187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Кафедра  инфекционных  болезней,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фтизиатрии   и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кожвенерологических  болезней</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sp>
        <p:nvSpPr>
          <p:cNvPr id="43" name="WordArt 4"/>
          <p:cNvSpPr txBox="1"/>
          <p:nvPr/>
        </p:nvSpPr>
        <p:spPr>
          <a:xfrm>
            <a:off x="3635280" y="6093000"/>
            <a:ext cx="316872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Бухара  2007</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68580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Клиника</a:t>
            </a:r>
            <a:endParaRPr b="0" lang="en-US" sz="4000" spc="-1" strike="noStrike">
              <a:solidFill>
                <a:srgbClr val="000000"/>
              </a:solidFill>
              <a:latin typeface="Calibri"/>
            </a:endParaRPr>
          </a:p>
        </p:txBody>
      </p:sp>
      <p:sp>
        <p:nvSpPr>
          <p:cNvPr id="61" name=""/>
          <p:cNvSpPr txBox="1"/>
          <p:nvPr/>
        </p:nvSpPr>
        <p:spPr>
          <a:xfrm>
            <a:off x="533520" y="1371240"/>
            <a:ext cx="8076960" cy="4876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реди других желез наиболее часто и одновременно со слюнной железой поражается поджелудочная железа. Панкреатит может протекать бессимптомно либо сопровождаете» только повышением активности диастазы в моче. Значительно реже панкреатит проявляется повышением температуры тела, тошнотой, многократной рвотой, опоясывающей болью в животе и диареей. Паротитный панкреатит не всегда сопровождается повышением активности диастазы и, наоборот, при очень высокой ее активности могут отсутствовать симптомы панкреатита. Паротитный панкреатит продолжается 5-10 дней, течение его благоприятно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68580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Клиника</a:t>
            </a:r>
            <a:endParaRPr b="0" lang="en-US" sz="4000" spc="-1" strike="noStrike">
              <a:solidFill>
                <a:srgbClr val="000000"/>
              </a:solidFill>
              <a:latin typeface="Calibri"/>
            </a:endParaRPr>
          </a:p>
        </p:txBody>
      </p:sp>
      <p:sp>
        <p:nvSpPr>
          <p:cNvPr id="63" name=""/>
          <p:cNvSpPr txBox="1"/>
          <p:nvPr/>
        </p:nvSpPr>
        <p:spPr>
          <a:xfrm>
            <a:off x="609480" y="1218960"/>
            <a:ext cx="7925040" cy="51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рхит развивается в конце 1-й недели болезни при стихании явлений паротита и сопровождается подъемом температуры тела до 39-40 °С, болью в паху и в области пораженного яичка, иногда рвотой. Яичко увеличивается, кожа мошонки над ним краснеет. Орхит может быть однои двусторонним, его продолжительность 7-14 дней, редко больше.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28240" y="533520"/>
            <a:ext cx="8458200" cy="579096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ряду с орхитом возможно развитие эпидидимита, что утяжеляет течение процесса. Следствием орхита могут быть атрофия яичка, бесплодие. Поражение половых желез у женщин наблюдается в виде оофорита, бартолинита. При этом на фоне лихорадки появляется боль внизу живота, в области половых органов. В подвздошной области определяют болезненную подвижную опухоль. Могут развиться маститы у лиц обоего пола и любого возраста. Поражение  нервной системы возникает преимущественно у детей на 4-10-й день болезни, что проявляется серозным менингитом, значительно реже менингоэнцефалитом, мононевритом черепных нервов и полирадикулоневритом. Развитие серозного менингита сопровождается повышением температуры тела, головной болью, многократной рвотой и менингеальным синдромом. В цереброспинальной жидкости - умеренный лимфоцитарный плеоцитоз, умеренное повышение уровня белка; ее санация у детей происходит к 10-22-му дню болезни, а у взрослых медленнее. При развитии менингоэнцефалитов, кроме описанных, выявляют очаговые симптомы, могут быть парезы черепных нервов и гемипарезы. Исход благоприятный. У детей течение болезни более мягкое, чем у взрослых. Следствием эпидемического паротита могут быть невриты слухового и зрительного нервов, а также кератит, поражение надпочечников, предстательной, щитовидной и вилочковой желез, поражение суставов, сопровождающееся отеком и нарушением их функции.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60948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Диагностика и дифференциальная диагностика.</a:t>
            </a:r>
            <a:endParaRPr b="0" lang="en-US" sz="2800" spc="-1" strike="noStrike">
              <a:solidFill>
                <a:srgbClr val="000000"/>
              </a:solidFill>
              <a:latin typeface="Calibri"/>
            </a:endParaRPr>
          </a:p>
        </p:txBody>
      </p:sp>
      <p:sp>
        <p:nvSpPr>
          <p:cNvPr id="66" name=""/>
          <p:cNvSpPr txBox="1"/>
          <p:nvPr/>
        </p:nvSpPr>
        <p:spPr>
          <a:xfrm>
            <a:off x="380880" y="1447920"/>
            <a:ext cx="8305920" cy="487656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В типичных случаях, при поражении только слюнных желез, установление диагноза по клиническим симптомам не вызывает затруднений, но иногда возникает необходимость дифференциального диагноза с воспалительными заболеваниями слюнных желез. В последнем случае кожа над увеличенной железой гиперемирована, пальпация ее всегда болезненна, консистенция плотная. Характерны нейтрофильный лейкоцитоз и лихорадка гектического типа. Паротитный серозный менингит, развившийся в случаях своевременно невыявленного паротита, дифференцируют с серозным менингитом энтеровирусной, хламидийной, герпетической, лептоспирозной, туберкулезной и листериозной этиологии. В аналогичных случаях паротитный орхит дифференцируют с бруцеллезным, туберкулезным и гонорейным. Среди неспецифических лабораторных методов диагностики большое значение имеет выявление высокой активности диастазы мочи.</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045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Лечение</a:t>
            </a:r>
            <a:endParaRPr b="0" lang="en-US" sz="4000" spc="-1" strike="noStrike">
              <a:solidFill>
                <a:srgbClr val="000000"/>
              </a:solidFill>
              <a:latin typeface="Calibri"/>
            </a:endParaRPr>
          </a:p>
        </p:txBody>
      </p:sp>
      <p:sp>
        <p:nvSpPr>
          <p:cNvPr id="68" name=""/>
          <p:cNvSpPr txBox="1"/>
          <p:nvPr/>
        </p:nvSpPr>
        <p:spPr>
          <a:xfrm>
            <a:off x="228240" y="914400"/>
            <a:ext cx="8458200" cy="5410080"/>
          </a:xfrm>
          <a:prstGeom prst="rect">
            <a:avLst/>
          </a:prstGeom>
          <a:noFill/>
          <a:ln w="0">
            <a:noFill/>
          </a:ln>
        </p:spPr>
        <p:txBody>
          <a:bodyPr anchor="t">
            <a:normAutofit fontScale="99000"/>
          </a:bodyPr>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Лечение неосложненного паротита симптоматическое, направлено на снижение интоксикации и воспаления слюнных желез (анальгин, амидопирин, антигистаминные средства, сухое тепло на обе железы, УФО, УВЧ). При тяжелом течении назначают короткий курс преднизолона. Орхит требует постельного режима, ношения суспензория. Наиболее эффективны кортикостероиды (20-60 мг в сутки), которые рекомендуется назначать при первых признаках орхита или эпидидимита. Ранняя терапия предотвращает развитие - неблагоприятных исходов, быстро купирует процесс. Лечение прекращают по исчезновении клинических симптомов болезни. Ношение суспензория продолжается еще около 2 нед. При установлении Диагноза паротитного менингита производят спинномозговую пункцию, что уменьшает головную боль и облегчает состояние больного. Проводят дегидратационную терапию. При менингоэнцефалите назначают преднизолон в дозе 60-120 мг в сутки, а также иные (по показаниям) патогенетические средства. Лечение паротитных панкреатитов проводят лишь при наличии болевого синдрома: холод на живот, внутримышечно димедрол 1% 1-2 мл, ингибиторы трипсина — трасилол (контрикал), гордокс внутривенно в дозе 50 000 ЕД в 1-й день, 3 дня - по 25 000 ЕД и 5 дней - по 15 000 ЕД. Имеет значение диета: в 1-е сутки голод, затем осторожное расширение диеты.</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Профилактика</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Разобщению подлежат дети, не болевшие паротитом, в возрасте до 10 лет на 21-й день от последнего контакта. С 1974 г. в нашей стране введена противопаротитная вакцина. Иммунизацию проводят однократно и одновременно с противокоревой детям в возрасте 15—18 мес. Противопоказания: беременность, лихорадка, иммунодепресси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Тема:</a:t>
            </a:r>
            <a:endParaRPr b="0" lang="en-US" sz="4400" spc="-1" strike="noStrike">
              <a:solidFill>
                <a:srgbClr val="000000"/>
              </a:solidFill>
              <a:latin typeface="Times New Roman"/>
            </a:endParaRPr>
          </a:p>
        </p:txBody>
      </p:sp>
      <p:sp>
        <p:nvSpPr>
          <p:cNvPr id="45" name="WordArt 3"/>
          <p:cNvSpPr txBox="1"/>
          <p:nvPr/>
        </p:nvSpPr>
        <p:spPr>
          <a:xfrm>
            <a:off x="685800" y="1676520"/>
            <a:ext cx="7772400" cy="2367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Эпидемический паротит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46" name="WordArt 6"/>
          <p:cNvSpPr txBox="1"/>
          <p:nvPr/>
        </p:nvSpPr>
        <p:spPr>
          <a:xfrm>
            <a:off x="900000" y="6021360"/>
            <a:ext cx="7056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асс. , тфн  Тухтаев  А.А.</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0" lang="ru-RU" sz="4000" spc="-1" strike="noStrike">
                <a:solidFill>
                  <a:srgbClr val="000000"/>
                </a:solidFill>
                <a:latin typeface="Calibri"/>
              </a:rPr>
              <a:t>Эпидемический паротит - антропонозная болезнь вирусной природы, характеризующаяся поражением слюнных и других желез, а также нервной системы.</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09480"/>
            <a:ext cx="8991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Эпидемиология</a:t>
            </a:r>
            <a:endParaRPr b="0" lang="en-US" sz="3600" spc="-1" strike="noStrike">
              <a:solidFill>
                <a:srgbClr val="000000"/>
              </a:solidFill>
              <a:latin typeface="Calibri"/>
            </a:endParaRPr>
          </a:p>
        </p:txBody>
      </p:sp>
      <p:sp>
        <p:nvSpPr>
          <p:cNvPr id="49" name=""/>
          <p:cNvSpPr txBox="1"/>
          <p:nvPr/>
        </p:nvSpPr>
        <p:spPr>
          <a:xfrm>
            <a:off x="228240" y="1218960"/>
            <a:ext cx="8458200" cy="563868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Источником инфекции является только больной человек, который выделяет возбудителя со слюной. Наиболее заразителен больной в первые 3-5 дней от начала болезни. Путь передачи - воздушно-капельный. Восприимчивость всеобщая, чаще болеют дети, но отмечается тенденция к повышению заболеваемости взрослых. Мужчины болеют в 1 </a:t>
            </a:r>
            <a:r>
              <a:rPr b="0" i="1" lang="ru-RU" sz="2600" spc="-1" strike="noStrike">
                <a:solidFill>
                  <a:srgbClr val="000000"/>
                </a:solidFill>
                <a:latin typeface="Calibri"/>
              </a:rPr>
              <a:t>/г </a:t>
            </a:r>
            <a:r>
              <a:rPr b="0" lang="ru-RU" sz="2600" spc="-1" strike="noStrike">
                <a:solidFill>
                  <a:srgbClr val="000000"/>
                </a:solidFill>
                <a:latin typeface="Calibri"/>
              </a:rPr>
              <a:t>раза чаще, чем женщины. Болезнь регистрируется в течение всего года, но максимум заболеваемости приходится на зимне-весенний период. Встречается в виде спорадических случаев и эпидемических вспышек в закрытых коллективах и детских учреждениях. Характерна периодичность подъемов заболеваемости каждые 4-5 лет.</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4568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ПАТОГЕНЕЗ</a:t>
            </a:r>
            <a:endParaRPr b="0" lang="en-US" sz="4400" spc="-1" strike="noStrike">
              <a:solidFill>
                <a:srgbClr val="000000"/>
              </a:solidFill>
              <a:latin typeface="Calibri"/>
            </a:endParaRPr>
          </a:p>
        </p:txBody>
      </p:sp>
      <p:sp>
        <p:nvSpPr>
          <p:cNvPr id="51" name=""/>
          <p:cNvSpPr txBox="1"/>
          <p:nvPr/>
        </p:nvSpPr>
        <p:spPr>
          <a:xfrm>
            <a:off x="228240" y="1219320"/>
            <a:ext cx="8458200" cy="54864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Входные ворота инфекции - слизистая оболочка рта и носа. Здесь возбудитель размножается, проникает в кровь и с током крови попадает в различные железы (слюнные, половые, поджелудочную), в ЦНС. Вирус поражает преимущественно интерстициальную ткань. Особую тропность проявляет к слюнным железам, поражение которых при этой инфекции является практически обязательным, в то время как вовлечение в процесс других железистых органов наблюдается через 5-10 дней после появления паротита и рядом авторов расценивается как осложнение.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4568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ПАТОГЕНЕЗ</a:t>
            </a:r>
            <a:endParaRPr b="0" lang="en-US" sz="4400" spc="-1" strike="noStrike">
              <a:solidFill>
                <a:srgbClr val="000000"/>
              </a:solidFill>
              <a:latin typeface="Calibri"/>
            </a:endParaRPr>
          </a:p>
        </p:txBody>
      </p:sp>
      <p:sp>
        <p:nvSpPr>
          <p:cNvPr id="53" name=""/>
          <p:cNvSpPr txBox="1"/>
          <p:nvPr/>
        </p:nvSpPr>
        <p:spPr>
          <a:xfrm>
            <a:off x="228240" y="1219320"/>
            <a:ext cx="8458200" cy="548640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лагают, что поражение того или иного органа определяется его функциональным состоянием. Например, поражение половых органов у мальчиков и мужчин старше 50 лет происходит редко, а у молодых мужчин часто. В развитии осложнений играют роль и иммунные механизмы. Им придается определенное значение при развитии осложнений со стороны нервной системы, менингитов, энцефалитов, периферических невритов, полирадикулоневритов, которые выявляются лишь на 2-3-й неделе от начала болезни, а также при поражении поджелудочной железы, которое иногда способствует появлению сахарного диабета. Перенесенная болезнь оставляет стойкий иммунитет. Однако встречаются повторные заболевания.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6094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Клиника</a:t>
            </a:r>
            <a:r>
              <a:rPr b="0" lang="ru-RU" sz="3600" spc="-1" strike="noStrike">
                <a:solidFill>
                  <a:srgbClr val="000000"/>
                </a:solidFill>
                <a:latin typeface="Calibri"/>
              </a:rPr>
              <a:t>.</a:t>
            </a:r>
            <a:endParaRPr b="0" lang="en-US" sz="3600" spc="-1" strike="noStrike">
              <a:solidFill>
                <a:srgbClr val="000000"/>
              </a:solidFill>
              <a:latin typeface="Calibri"/>
            </a:endParaRPr>
          </a:p>
        </p:txBody>
      </p:sp>
      <p:sp>
        <p:nvSpPr>
          <p:cNvPr id="55" name=""/>
          <p:cNvSpPr txBox="1"/>
          <p:nvPr/>
        </p:nvSpPr>
        <p:spPr>
          <a:xfrm>
            <a:off x="304560" y="1142640"/>
            <a:ext cx="8305560" cy="5257800"/>
          </a:xfrm>
          <a:prstGeom prst="rect">
            <a:avLst/>
          </a:prstGeom>
          <a:noFill/>
          <a:ln w="0">
            <a:noFill/>
          </a:ln>
        </p:spPr>
        <p:txBody>
          <a:bodyPr anchor="t">
            <a:normAutofit/>
          </a:bodyPr>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Инкубационный период составляет 15-19 дней с колебаниями от 3 до 35 дней. Выделяют легкие, среднетяжелые и тяжелые формы болезни. Критерием тяжести служат степень интоксикации и наличие или отсутствие осложнений. Начало болезни в большинстве случаев острое: познабливание, повышение температуры тела нередко до 39-40 °С. Почти одновременно возникают тянущая боль в области околоушных слюнных желез и болезненность за мочкой уха. Перед ушной раковиной с одной стороны (чаще справа) возникает веретенообразная припухлость (отечная околоушная железа). Отек, увеличиваясь, распространяется вверх, вниз и на щеку, особенно четко виден при осмотре больного сзад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761760"/>
            <a:ext cx="9144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Клиника.</a:t>
            </a:r>
            <a:endParaRPr b="0" lang="en-US" sz="3600" spc="-1" strike="noStrike">
              <a:solidFill>
                <a:srgbClr val="000000"/>
              </a:solidFill>
              <a:latin typeface="Calibri"/>
            </a:endParaRPr>
          </a:p>
        </p:txBody>
      </p:sp>
      <p:sp>
        <p:nvSpPr>
          <p:cNvPr id="57" name=""/>
          <p:cNvSpPr txBox="1"/>
          <p:nvPr/>
        </p:nvSpPr>
        <p:spPr>
          <a:xfrm>
            <a:off x="304560" y="1371600"/>
            <a:ext cx="8305560" cy="495288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ижняя часть лица расширяется, приобретая характерную форму груши. Максимальным отек становится к 3-5-му дню болезни, кожа над отечной железой напряжена, лоснится, но обычной окраски. При надавливании на нее ямка не образуется, пальпация болезненна в центре. Отечная железа сдавливает наружный слуховой проход и слуховую трубу, в связи с чем снижается острота слуха, возникают шум и боль в ушах. Одновременно снижается слюноотделение, что вызывает сухость во рту. Вокруг отверстия околоушного протока выявляется отечность слизистой оболочки (признак Мурсу). Через несколько дней увеличивается железа с противоположной стороны, но процесс может быть и односторонни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68580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Клиника</a:t>
            </a:r>
            <a:endParaRPr b="0" lang="en-US" sz="3600" spc="-1" strike="noStrike">
              <a:solidFill>
                <a:srgbClr val="000000"/>
              </a:solidFill>
              <a:latin typeface="Calibri"/>
            </a:endParaRPr>
          </a:p>
        </p:txBody>
      </p:sp>
      <p:sp>
        <p:nvSpPr>
          <p:cNvPr id="59" name=""/>
          <p:cNvSpPr txBox="1"/>
          <p:nvPr/>
        </p:nvSpPr>
        <p:spPr>
          <a:xfrm>
            <a:off x="457200" y="1371600"/>
            <a:ext cx="8153280" cy="49528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роме околоушных, поражаются подчелюстные и подъязычные слюнные железы, при этом появляется отечность в подчелюстной и подбородочной области. Отек железы держится 6-16 дней, в отдельных случаях у взрослых больных -более продолжительное время. Лихорадка разного типа наблюдается в течение 4-7 дней, но ее может и не быть. Тяжесть заболевания усиливается с возрастом. В целом у взрослых болезнь протекает тяжелее и длительнее, чем у детей.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2T00:06:25Z</dcterms:created>
  <dc:creator>Gulyamov Sukhrob</dc:creator>
  <dc:description/>
  <dc:language>en-US</dc:language>
  <cp:lastModifiedBy>Buzich</cp:lastModifiedBy>
  <dcterms:modified xsi:type="dcterms:W3CDTF">2007-12-07T21:48:16Z</dcterms:modified>
  <cp:revision>4</cp:revision>
  <dc:subject/>
  <dc:title>Слайд 1</dc:title>
</cp:coreProperties>
</file>