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25EF71-2119-4399-A592-012750004C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8EEF5-019C-410E-96F6-91590AFE0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48B026E-2165-4646-9D9F-30F5E2D03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1DF1F0-FA1A-4C71-BB82-3F2946F697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15E4A7-4DDB-4C23-9882-75FEE763B3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3D958B-51E8-428C-8090-09DEB5FAC1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B894E8-B2DC-4055-9C23-FDBC38E87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57795-E408-4CCA-B9CE-46ED1E5BFA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B5456-7FE7-4335-B217-23931A675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BC46C-A8D2-4BF8-9B3F-0C31D65653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5D34B2-12A4-4938-8CE8-382602170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1F091-D8A0-408D-8F38-2050073145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19E69-FE3F-4362-B1A7-F4D704224D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Arial"/>
              </a:rPr>
              <a:t>Тери касалликларининг диагностика асослари.</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узувчи: Юқумли касалликлар, фтизиатрия ва тери-таносил касалликлари кафедраси доценти О.Б.Рахматов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Терида бўладиган тошмаларга тавсиф</a:t>
            </a:r>
            <a:endParaRPr b="0" lang="en-US" sz="40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ошмаларнинг чегараланганлиг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арқалганлиг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Симметриклиг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Асиммметриклиг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Жойлашган жой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Ўлчам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ери сатхидан кўтарилганлиги + тўқима</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ери сатхидан чуқурлашганлиги – тўқима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2" name="PlaceHolder 2"/>
          <p:cNvSpPr>
            <a:spLocks noGrp="1"/>
          </p:cNvSpPr>
          <p:nvPr>
            <p:ph/>
          </p:nvPr>
        </p:nvSpPr>
        <p:spPr>
          <a:xfrm>
            <a:off x="228240" y="304560"/>
            <a:ext cx="8915400" cy="6172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Бир-бирига қўшилганлиг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Чегараси-ўткирлиги, секинлик билан терига қўшилиш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Шакли-зич жойлашганлиги, бўртиб чиқганлиги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Кўриниши-айлана, овал, чизиқсимо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Ранги- пушти, оч ёки тўқ қизил, сариқ, оқиш, кумуш ранг, қорамтир, қўнғир х.к.</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Консистенцияси-юмшоқ, қаттиқ, эластик, хамирсимон</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Жойлашиш характерига қараб-изолацияланган, гурухл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Юзаси- силлиқ, дағал, кўчиб турувчи.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Тери холатига бахо бериш усуллари</a:t>
            </a:r>
            <a:endParaRPr b="0" lang="en-US" sz="4000" spc="-1" strike="noStrike">
              <a:solidFill>
                <a:srgbClr val="000000"/>
              </a:solidFill>
              <a:latin typeface="Arial"/>
            </a:endParaRPr>
          </a:p>
        </p:txBody>
      </p:sp>
      <p:sp>
        <p:nvSpPr>
          <p:cNvPr id="64" name="PlaceHolder 2"/>
          <p:cNvSpPr>
            <a:spLocks noGrp="1"/>
          </p:cNvSpPr>
          <p:nvPr>
            <p:ph/>
          </p:nvPr>
        </p:nvSpPr>
        <p:spPr>
          <a:xfrm>
            <a:off x="-360" y="1294920"/>
            <a:ext cx="8915400" cy="5257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Қават-қават қиринди олиб текшириш- терининг қипиқланиши ва томирларнинг шикастланиш даражаси бахоланад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Мушак-соч рефлесини аниқлаш- терига совуқ буюм тегирилса “ўрдак териси” белгиси хосил бўлад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Дермографизмни аниқлаш</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ерининг совуққа сезгирлигини аниқлаш- ўлчами катта бўлган қаварчиқлар хосил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 </a:t>
            </a:r>
            <a:r>
              <a:rPr b="0" lang="uz-Cyrl-UZ" sz="2800" spc="-1" strike="noStrike">
                <a:solidFill>
                  <a:srgbClr val="000000"/>
                </a:solidFill>
                <a:latin typeface="Arial"/>
              </a:rPr>
              <a:t>Диаскопия усули ёки Терини тортиб кўриш усули</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ери синамасини қўйиш (туберкулин, лейшманин)</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Лаборатор текшириш усуллари</a:t>
            </a:r>
            <a:endParaRPr b="0" lang="en-US" sz="40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Бактериологи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Бактериоскопи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Микологи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Гистологик</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a:t>
            </a:r>
            <a:r>
              <a:rPr b="0" lang="ru-RU" sz="2800" spc="-1" strike="noStrike">
                <a:solidFill>
                  <a:srgbClr val="000000"/>
                </a:solidFill>
                <a:latin typeface="Arial"/>
              </a:rPr>
              <a:t> </a:t>
            </a:r>
            <a:r>
              <a:rPr b="0" lang="en-US" sz="2800" spc="-1" strike="noStrike">
                <a:solidFill>
                  <a:srgbClr val="000000"/>
                </a:solidFill>
                <a:latin typeface="Arial"/>
              </a:rPr>
              <a:t>vitro</a:t>
            </a:r>
            <a:r>
              <a:rPr b="0" lang="ru-RU" sz="2800" spc="-1" strike="noStrike">
                <a:solidFill>
                  <a:srgbClr val="000000"/>
                </a:solidFill>
                <a:latin typeface="Arial"/>
              </a:rPr>
              <a:t> </a:t>
            </a:r>
            <a:r>
              <a:rPr b="0" lang="uz-Cyrl-UZ" sz="2800" spc="-1" strike="noStrike">
                <a:solidFill>
                  <a:srgbClr val="000000"/>
                </a:solidFill>
                <a:latin typeface="Arial"/>
              </a:rPr>
              <a:t>шароитида иммунологик тестлар қўйи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Серологик реакцияларни аниқла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Вуд лампаларидан фойдалани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Рангли синамалар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ТОШМАЛАР ТАСНИФИ ВА ТАВСИФИ:</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Тери-таносил касалликларда учрайдиган тошмалар қўзғатувчиларнинг бевосита терига таъсир этиб ўчоқли яллиғланишлар келтириб чиқариши, улар захарли махсулотларининг таъсири, аллергик реакциялар оқибатида ҳамда нерв – рефлектор</a:t>
            </a:r>
            <a:r>
              <a:rPr b="0" lang="en-US" sz="3200" spc="-1" strike="noStrike">
                <a:solidFill>
                  <a:srgbClr val="000000"/>
                </a:solidFill>
                <a:latin typeface="Arial"/>
              </a:rPr>
              <a:t> </a:t>
            </a:r>
            <a:r>
              <a:rPr b="0" lang="ru-RU" sz="3200" spc="-1" strike="noStrike">
                <a:solidFill>
                  <a:srgbClr val="000000"/>
                </a:solidFill>
                <a:latin typeface="Arial"/>
              </a:rPr>
              <a:t>бузилишлар ҳисобига намоён бўла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518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йрим холатларда қон ва лимфа томирларининг кенгайиши ва уларнинг ўтказувчанлиги ортиши билан чегараланса, баъзида қон томирлар бутунлиги бузилиши, чуқур трофик ўзгаришлар, яллиғланиш инфильтратлари, терида деструктив ўзгаришлар хосил бўлиши билан намоён бўла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0880" y="274680"/>
            <a:ext cx="830592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Терида жойлашган қон томирлар кенгайиши ҳисобига ҳосил бўладиган тошмалар </a:t>
            </a:r>
            <a:endParaRPr b="0" lang="en-US" sz="4000" spc="-1" strike="noStrike">
              <a:solidFill>
                <a:srgbClr val="000000"/>
              </a:solidFill>
              <a:latin typeface="Arial"/>
            </a:endParaRPr>
          </a:p>
        </p:txBody>
      </p:sp>
      <p:sp>
        <p:nvSpPr>
          <p:cNvPr id="72" name="PlaceHolder 2"/>
          <p:cNvSpPr>
            <a:spLocks noGrp="1"/>
          </p:cNvSpPr>
          <p:nvPr>
            <p:ph/>
          </p:nvPr>
        </p:nvSpPr>
        <p:spPr>
          <a:xfrm>
            <a:off x="457200" y="2438280"/>
            <a:ext cx="8229600" cy="3687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 Нуқтасимон тошма; ўлчами 1 мм атрофидаги ранги оч қизғиш рангли тошмалар бўлиб, тери босганда ва тортилганда йўқола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457200" y="685800"/>
            <a:ext cx="8229600" cy="54403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розеола; ўлчами 2-5 мм, ранги қизғиш  ёки оч пуштиранг, тери сатхидан кўтарилмайди, тери силлиқлиги сақланади, босганда ва тери тортилганда йўқолад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В) доғ; ўлчами 5-20 мм келадиган элементлар, бўлиб, улар майда доғлар (5-10 мм) ва катта доғларга (10-20 мм) бўлинади. Тери сатхидан қисман кўтарилган бўлиб, кўтарилганлиги оддий кўз билан қаралганда билинмайди, ранги қизғиш ёки қўнғирроқ. Тери босилганда ёки тортилганда қисман йўқолади ва юборилгандан кейин тез пайдо бўлади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136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Г) эритема; ўлчами 20 мм дан катта бўлган тошма ҳисобланади, тери сатхидан қисман кўтарилади. Ранги қизғиш рангда ёки қўнғирроқ бўлади. Тери тортилганда ва босилганда қисман йўқолиб тезда қайта пайдо бўла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560" y="274320"/>
            <a:ext cx="8381880" cy="246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a:t>
            </a:r>
            <a:r>
              <a:rPr b="0" lang="ru-RU" sz="4000" spc="-1" strike="noStrike">
                <a:solidFill>
                  <a:srgbClr val="000000"/>
                </a:solidFill>
                <a:latin typeface="Arial"/>
              </a:rPr>
              <a:t>2.Терида жойлашган қон томирлар ўтказувчанлигининг ортиши ҳисобига хосил бўладиган тошмалар </a:t>
            </a:r>
            <a:endParaRPr b="0" lang="en-US" sz="4000" spc="-1" strike="noStrike">
              <a:solidFill>
                <a:srgbClr val="000000"/>
              </a:solidFill>
              <a:latin typeface="Arial"/>
            </a:endParaRPr>
          </a:p>
        </p:txBody>
      </p:sp>
      <p:sp>
        <p:nvSpPr>
          <p:cNvPr id="78"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А) петехия; ўлчами 1 мм атрофидаги майда қон қуйилишлар</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ru-RU" sz="3200" spc="-1" strike="noStrike">
                <a:solidFill>
                  <a:srgbClr val="000000"/>
                </a:solidFill>
                <a:latin typeface="Arial"/>
              </a:rPr>
              <a:t>Б) пупура; ўлчами 2 мм дан 5 мм гача бўлган элементлар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В) экхимоз; 5 мм дан катта қон қуйилишларга айтилади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ри физиологияси</a:t>
            </a:r>
            <a:endParaRPr b="0" lang="en-US" sz="4400" spc="-1" strike="noStrike">
              <a:solidFill>
                <a:srgbClr val="000000"/>
              </a:solidFill>
              <a:latin typeface="Arial"/>
            </a:endParaRPr>
          </a:p>
        </p:txBody>
      </p:sp>
      <p:sp>
        <p:nvSpPr>
          <p:cNvPr id="4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04560" y="274680"/>
            <a:ext cx="838188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3.Терининг маълум бир қисмига хужайралар миграцияланиши (кўчиб келиб тўпланиши) ҳисобига хосил бўладиган инфильтратлар</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0" name="PlaceHolder 2"/>
          <p:cNvSpPr>
            <a:spLocks noGrp="1"/>
          </p:cNvSpPr>
          <p:nvPr>
            <p:ph/>
          </p:nvPr>
        </p:nvSpPr>
        <p:spPr>
          <a:xfrm>
            <a:off x="457200" y="3123720"/>
            <a:ext cx="8229600" cy="30020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А) папула (тугунча); ўлчами бир-икки мм дан 20 мм гача келадиган тошма</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Б) тугун; ўлчами 20 ммдан катта</a:t>
            </a:r>
            <a:r>
              <a:rPr b="0" lang="ru-RU" sz="3200" spc="-1" strike="noStrike">
                <a:solidFill>
                  <a:srgbClr val="000000"/>
                </a:solidFill>
                <a:latin typeface="Arial"/>
              </a:rPr>
              <a:t> </a:t>
            </a:r>
            <a:r>
              <a:rPr b="0" lang="uz-Cyrl-UZ" sz="3200" spc="-1" strike="noStrike">
                <a:solidFill>
                  <a:srgbClr val="000000"/>
                </a:solidFill>
                <a:latin typeface="Arial"/>
              </a:rPr>
              <a:t>келадиган тошм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437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a:t>
            </a:r>
            <a:r>
              <a:rPr b="0" lang="uz-Cyrl-UZ" sz="4000" spc="-1" strike="noStrike">
                <a:solidFill>
                  <a:srgbClr val="000000"/>
                </a:solidFill>
                <a:latin typeface="Arial"/>
              </a:rPr>
              <a:t>4. Тери ва шиллиқ қаватлар хужайраларининг бирор бир таъсирот натижасида  вакуолизацияланиши (емирилиши ва ўрнида серроз экссудат тўпланиши) ҳисобига ҳосил бўладиган элементлар</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2" name="PlaceHolder 2"/>
          <p:cNvSpPr>
            <a:spLocks noGrp="1"/>
          </p:cNvSpPr>
          <p:nvPr>
            <p:ph/>
          </p:nvPr>
        </p:nvSpPr>
        <p:spPr>
          <a:xfrm>
            <a:off x="457200" y="4724280"/>
            <a:ext cx="8229600" cy="14018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А) пуфакча (везикула); ўлчами 2-5 мм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Б) пустула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В) пуфак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74320"/>
            <a:ext cx="830592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a:t>
            </a:r>
            <a:r>
              <a:rPr b="0" lang="uz-Cyrl-UZ" sz="4000" spc="-1" strike="noStrike">
                <a:solidFill>
                  <a:srgbClr val="000000"/>
                </a:solidFill>
                <a:latin typeface="Arial"/>
              </a:rPr>
              <a:t>5. Тери ва шиллиқ қаватларнинг деструкцияси хисобига ҳосил бўладиган элементлар</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84" name="PlaceHolder 2"/>
          <p:cNvSpPr>
            <a:spLocks noGrp="1"/>
          </p:cNvSpPr>
          <p:nvPr>
            <p:ph/>
          </p:nvPr>
        </p:nvSpPr>
        <p:spPr>
          <a:xfrm>
            <a:off x="457200" y="2819160"/>
            <a:ext cx="8229600" cy="3306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А) эрозия</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Б) яра</a:t>
            </a:r>
            <a:r>
              <a:rPr b="0" lang="ru-RU"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0880" y="274680"/>
            <a:ext cx="8305920" cy="2697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a:t>
            </a:r>
            <a:r>
              <a:rPr b="0" lang="uz-Cyrl-UZ" sz="4000" spc="-1" strike="noStrike">
                <a:solidFill>
                  <a:srgbClr val="000000"/>
                </a:solidFill>
                <a:latin typeface="Arial"/>
              </a:rPr>
              <a:t>6.Терининг юза, эпидерма қавати кўчишининг (қипиқланишининг) тезлашиши ҳисобига ҳосил бўладган тошмалар:</a:t>
            </a:r>
            <a:endParaRPr b="0" lang="en-US" sz="4000" spc="-1" strike="noStrike">
              <a:solidFill>
                <a:srgbClr val="000000"/>
              </a:solidFill>
              <a:latin typeface="Arial"/>
            </a:endParaRPr>
          </a:p>
        </p:txBody>
      </p:sp>
      <p:sp>
        <p:nvSpPr>
          <p:cNvPr id="86" name="PlaceHolder 2"/>
          <p:cNvSpPr>
            <a:spLocks noGrp="1"/>
          </p:cNvSpPr>
          <p:nvPr>
            <p:ph/>
          </p:nvPr>
        </p:nvSpPr>
        <p:spPr>
          <a:xfrm>
            <a:off x="457200" y="3276360"/>
            <a:ext cx="8229600" cy="2849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000000"/>
                </a:solidFill>
                <a:latin typeface="Arial"/>
              </a:rPr>
              <a:t>А) кепаксимон қипиқланиш; кепак кўринишидаги қипиқланиш бўлиб, ўлчами 1-2 мм келади.</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000000"/>
                </a:solidFill>
                <a:latin typeface="Arial"/>
              </a:rPr>
              <a:t>Б) тангасимон қипиқ: ўлчами жиҳатдан 2-5 мм келадиган қипиқланиш.</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400" spc="-1" strike="noStrike">
                <a:solidFill>
                  <a:srgbClr val="000000"/>
                </a:solidFill>
                <a:latin typeface="Arial"/>
              </a:rPr>
              <a:t>В) баргсимон ёки варақсимон қипиқ: ўлчами 5 мм дан катта бўлган тери кўчишлари ҳисобланад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2392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a:t>
            </a:r>
            <a:r>
              <a:rPr b="0" lang="ru-RU" sz="4000" spc="-1" strike="noStrike">
                <a:solidFill>
                  <a:srgbClr val="000000"/>
                </a:solidFill>
                <a:latin typeface="Arial"/>
              </a:rPr>
              <a:t>7. Терида пигмент алманишувининг бузилиши ҳисобига хосил бўладиган тошмалар: </a:t>
            </a:r>
            <a:endParaRPr b="0" lang="en-US" sz="4000" spc="-1" strike="noStrike">
              <a:solidFill>
                <a:srgbClr val="000000"/>
              </a:solidFill>
              <a:latin typeface="Arial"/>
            </a:endParaRPr>
          </a:p>
        </p:txBody>
      </p:sp>
      <p:sp>
        <p:nvSpPr>
          <p:cNvPr id="88" name="PlaceHolder 2"/>
          <p:cNvSpPr>
            <a:spLocks noGrp="1"/>
          </p:cNvSpPr>
          <p:nvPr>
            <p:ph/>
          </p:nvPr>
        </p:nvSpPr>
        <p:spPr>
          <a:xfrm>
            <a:off x="457200" y="2742840"/>
            <a:ext cx="8229600" cy="3382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Пигментланиш-(пигментация) папула,  </a:t>
            </a:r>
            <a:r>
              <a:rPr b="0" lang="en-US" sz="3200" spc="-1" strike="noStrike">
                <a:solidFill>
                  <a:srgbClr val="000000"/>
                </a:solidFill>
                <a:latin typeface="Arial"/>
              </a:rPr>
              <a:t>тугун</a:t>
            </a:r>
            <a:r>
              <a:rPr b="0" lang="ru-RU" sz="3200" spc="-1" strike="noStrike">
                <a:solidFill>
                  <a:srgbClr val="000000"/>
                </a:solidFill>
                <a:latin typeface="Arial"/>
              </a:rPr>
              <a:t> каби хосилалар бўлган жойда терининг кучли пигментланиш ёки эритроцитлар гемоглобинининг емирилиши ҳисобига хосил бўлади. Пигмент доғлар қўнғир рангда бўлади.</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74680"/>
            <a:ext cx="8381880" cy="23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a:t>
            </a:r>
            <a:r>
              <a:rPr b="0" lang="ru-RU" sz="4400" spc="-1" strike="noStrike">
                <a:solidFill>
                  <a:srgbClr val="000000"/>
                </a:solidFill>
                <a:latin typeface="Arial"/>
              </a:rPr>
              <a:t>8.Тери деструкциясидан сўнгги эксудатлар ҳисобига хосил бўладииш тошмалар: </a:t>
            </a:r>
            <a:endParaRPr b="0" lang="en-US" sz="4400" spc="-1" strike="noStrike">
              <a:solidFill>
                <a:srgbClr val="000000"/>
              </a:solidFill>
              <a:latin typeface="Arial"/>
            </a:endParaRPr>
          </a:p>
        </p:txBody>
      </p:sp>
      <p:sp>
        <p:nvSpPr>
          <p:cNvPr id="90" name="PlaceHolder 2"/>
          <p:cNvSpPr>
            <a:spLocks noGrp="1"/>
          </p:cNvSpPr>
          <p:nvPr>
            <p:ph/>
          </p:nvPr>
        </p:nvSpPr>
        <p:spPr>
          <a:xfrm>
            <a:off x="457200" y="2590920"/>
            <a:ext cx="8229600" cy="35352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Пўстлоқ: пуфакча, пустула ва яралар эксудатларининг қуришидан хосил бўлади. Экссудатнинг таркибига боғлиқ холда уларнинг ранги ҳар ҳил бўлади. Агар экссудат таркиби серроз суюқликдан иборат бўлса тиниқ ёки кулранг, йирингли бўлса сариқ, қонли бўлса қора-қизил ёки қўнғир рангда бўлади.</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80880" y="274320"/>
            <a:ext cx="8305920" cy="521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Бирламчи тошмалар</a:t>
            </a:r>
            <a:r>
              <a:rPr b="0" lang="ru-RU" sz="4400" spc="-1" strike="noStrike">
                <a:solidFill>
                  <a:srgbClr val="000000"/>
                </a:solidFill>
                <a:latin typeface="Arial"/>
              </a:rPr>
              <a:t>:</a:t>
            </a:r>
            <a:br>
              <a:rPr sz="4400"/>
            </a:br>
            <a:r>
              <a:rPr b="0" lang="ru-RU" sz="4400" spc="-1" strike="noStrike">
                <a:solidFill>
                  <a:srgbClr val="000000"/>
                </a:solidFill>
                <a:latin typeface="Arial"/>
              </a:rPr>
              <a:t> розеола, доғ, эритема, геморрагия, папула, тугун, пуфакча, пуфак.</a:t>
            </a:r>
            <a:br>
              <a:rPr sz="4400"/>
            </a:br>
            <a:r>
              <a:rPr b="0" lang="ru-RU" sz="4400" spc="-1" strike="noStrike">
                <a:solidFill>
                  <a:srgbClr val="000000"/>
                </a:solidFill>
                <a:latin typeface="Arial"/>
              </a:rPr>
              <a:t>	</a:t>
            </a:r>
            <a:r>
              <a:rPr b="1" lang="ru-RU" sz="4400" spc="-1" strike="noStrike">
                <a:solidFill>
                  <a:srgbClr val="000000"/>
                </a:solidFill>
                <a:latin typeface="Arial"/>
              </a:rPr>
              <a:t>Иккиламчи тошмалар</a:t>
            </a:r>
            <a:r>
              <a:rPr b="0" lang="ru-RU" sz="4400" spc="-1" strike="noStrike">
                <a:solidFill>
                  <a:srgbClr val="000000"/>
                </a:solidFill>
                <a:latin typeface="Arial"/>
              </a:rPr>
              <a:t>: қипиқ, пигментланиш, пўстлоқ, яра ва чандиқ.</a:t>
            </a:r>
            <a:endParaRPr b="0" lang="en-US" sz="4400" spc="-1" strike="noStrike">
              <a:solidFill>
                <a:srgbClr val="000000"/>
              </a:solidFill>
              <a:latin typeface="Arial"/>
            </a:endParaRPr>
          </a:p>
        </p:txBody>
      </p:sp>
      <p:sp>
        <p:nvSpPr>
          <p:cNvPr id="92" name="PlaceHolder 2"/>
          <p:cNvSpPr>
            <a:spLocks noGrp="1"/>
          </p:cNvSpPr>
          <p:nvPr>
            <p:ph/>
          </p:nvPr>
        </p:nvSpPr>
        <p:spPr>
          <a:xfrm>
            <a:off x="457200" y="5866920"/>
            <a:ext cx="8229600" cy="258840"/>
          </a:xfrm>
          <a:prstGeom prst="rect">
            <a:avLst/>
          </a:prstGeom>
          <a:noFill/>
          <a:ln w="0">
            <a:noFill/>
          </a:ln>
        </p:spPr>
        <p:txBody>
          <a:bodyPr lIns="90000" rIns="90000" tIns="46800" bIns="46800" anchor="t">
            <a:normAutofit fontScale="91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Тошмаларни тавсифлаш тартиби:</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Касаллик тарихига тошмаларни тавсифлашда аниқ хосил бўлган ва кўрилаётган вақти, хосил бўлиш кетма-кетлиги, танадаги жойлашган қисми, миқдори, ўлчами, шакли, ранги, тери сатхидан кўтарилиб туриши, бир бири билан қўшилиб кетиш мойиллиги ва бошқалар ёритилиши кера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Гомеостазни мувозанатини са</a:t>
            </a:r>
            <a:r>
              <a:rPr b="0" lang="uz-Cyrl-UZ" sz="2800" spc="-1" strike="noStrike">
                <a:solidFill>
                  <a:srgbClr val="000000"/>
                </a:solidFill>
                <a:latin typeface="Arial"/>
              </a:rPr>
              <a:t>қла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Механик, физикавий ва химиявий таъсиротлардан химоя қили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Инфекцион агентлардан химоя қили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ананинг доимий хароратини бир мувозанатда сақлаш (теплопродукция ва теплоотдачида иштирок этиши)</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ер орқали ортиқча ва зарарли махсулотларни чиқариш</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Организмга ёт моддаларни киришидан химояла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448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8"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Нафас олишда иштирок этиш (кислородни олиб СО 2 ни чиқари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Иммунологик химоя вазифасини бажариш</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Ташқи мухит таъсиротларини сезиш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Озиқлантириш функцияс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Секретор (экрин-чиқарувчи безлар фаолиятининг сақланиши билан, апокрин-чиқарув жараёнида бир қисм хужайралар парчаланиши ёки ўлиши хисобига жараён амалга ошади)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Витамин Д синтезлайди</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2800" spc="-1" strike="noStrike">
                <a:solidFill>
                  <a:srgbClr val="000000"/>
                </a:solidFill>
                <a:latin typeface="Arial"/>
              </a:rPr>
              <a:t>Организмда сувни буғлантириш</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4000" spc="-1" strike="noStrike">
                <a:solidFill>
                  <a:srgbClr val="000000"/>
                </a:solidFill>
                <a:latin typeface="Arial"/>
              </a:rPr>
              <a:t>Беморнинг субъектив шикоятлари</a:t>
            </a:r>
            <a:r>
              <a:rPr b="0" lang="uz-Cyrl-UZ" sz="4000" spc="-1" strike="noStrike">
                <a:solidFill>
                  <a:srgbClr val="000000"/>
                </a:solidFill>
                <a:latin typeface="Arial"/>
              </a:rPr>
              <a:t> </a:t>
            </a:r>
            <a:endParaRPr b="0" lang="en-US" sz="4000" spc="-1" strike="noStrike">
              <a:solidFill>
                <a:srgbClr val="000000"/>
              </a:solidFill>
              <a:latin typeface="Arial"/>
            </a:endParaRPr>
          </a:p>
        </p:txBody>
      </p:sp>
      <p:sp>
        <p:nvSpPr>
          <p:cNvPr id="50" name="PlaceHolder 2"/>
          <p:cNvSpPr>
            <a:spLocks noGrp="1"/>
          </p:cNvSpPr>
          <p:nvPr>
            <p:ph/>
          </p:nvPr>
        </p:nvSpPr>
        <p:spPr>
          <a:xfrm>
            <a:off x="457200" y="1599840"/>
            <a:ext cx="8229600" cy="4876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Оғриқ</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Қичишиш</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Куйишиш</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Терида ўрмалаётган хиссиёт</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Уйқусизлик</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Иштаха пасай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Кўнгли айн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Хид билишининг ўзгар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Таъм билишининг ўзгар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Зарда қайна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Хотира пасай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Кўришнинг пасай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Эштиш </a:t>
            </a:r>
            <a:r>
              <a:rPr b="1" lang="uz-Cyrl-UZ" sz="1800" spc="-1" strike="noStrike">
                <a:solidFill>
                  <a:srgbClr val="000000"/>
                </a:solidFill>
                <a:latin typeface="Arial"/>
              </a:rPr>
              <a:t>қобилияти пасай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Хожатга ёлғон чақирувлар</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Жинсий алоқа вақтида нохушлик сезилиш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1800" spc="-1" strike="noStrike">
                <a:solidFill>
                  <a:srgbClr val="000000"/>
                </a:solidFill>
                <a:latin typeface="Arial"/>
              </a:rPr>
              <a:t>жинсий қониқмасл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716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Беморнинг объектив шикоятлари</a:t>
            </a:r>
            <a:endParaRPr b="0" lang="en-US" sz="4000" spc="-1" strike="noStrike">
              <a:solidFill>
                <a:srgbClr val="000000"/>
              </a:solidFill>
              <a:latin typeface="Arial"/>
            </a:endParaRPr>
          </a:p>
        </p:txBody>
      </p:sp>
      <p:sp>
        <p:nvSpPr>
          <p:cNvPr id="52" name="PlaceHolder 2"/>
          <p:cNvSpPr>
            <a:spLocks noGrp="1"/>
          </p:cNvSpPr>
          <p:nvPr>
            <p:ph/>
          </p:nvPr>
        </p:nvSpPr>
        <p:spPr>
          <a:xfrm>
            <a:off x="228240" y="1066680"/>
            <a:ext cx="8915400" cy="505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Сочлар, қошлар, туклар, соқол-мўйловлар тўкил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Тирноқлар син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Тирноқлар шакли ўзгар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Кўп терлаш</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Бадан хидлан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Тери ранги ўзгар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Шишлар </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Сўлак кўп ажрал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Тил карашлан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Бурун, жинсий аъзолар ва қулоқдан патологик ажралмалар ажрал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Терида тошмалар пайдо бўлиши</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400" spc="-1" strike="noStrike">
                <a:solidFill>
                  <a:srgbClr val="000000"/>
                </a:solidFill>
                <a:latin typeface="Arial"/>
              </a:rPr>
              <a:t>Вақтидан олдин эякуляция</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Arial"/>
              </a:rPr>
              <a:t>Анамнез </a:t>
            </a:r>
            <a:endParaRPr b="0" lang="en-US" sz="4400" spc="-1" strike="noStrike">
              <a:solidFill>
                <a:srgbClr val="000000"/>
              </a:solidFill>
              <a:latin typeface="Arial"/>
            </a:endParaRPr>
          </a:p>
        </p:txBody>
      </p:sp>
      <p:sp>
        <p:nvSpPr>
          <p:cNvPr id="54"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Ирси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Хомиладорли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Туғруқ</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Болалик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Аллерги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Эмланиш</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Гигиени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Овқатланиш</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Кийиниш</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Космети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Касб</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Эпидемиологи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Бошидан кечирган касалликлар</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uz-Cyrl-UZ" sz="2000" spc="-1" strike="noStrike">
                <a:solidFill>
                  <a:srgbClr val="000000"/>
                </a:solidFill>
                <a:latin typeface="Arial"/>
              </a:rPr>
              <a:t>Бошидан кечираётган касалликлар</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400" spc="-1" strike="noStrike">
                <a:solidFill>
                  <a:srgbClr val="000000"/>
                </a:solidFill>
                <a:latin typeface="Arial"/>
              </a:rPr>
              <a:t>Умумий кўрув</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Умумий кўрув кундузги ёруғликда амалга оширилади ва бахоланад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334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4000" spc="-1" strike="noStrike">
                <a:solidFill>
                  <a:srgbClr val="000000"/>
                </a:solidFill>
                <a:latin typeface="Arial"/>
              </a:rPr>
              <a:t>Эътибор бериш керак</a:t>
            </a:r>
            <a:endParaRPr b="0" lang="en-US" sz="4000" spc="-1" strike="noStrike">
              <a:solidFill>
                <a:srgbClr val="000000"/>
              </a:solidFill>
              <a:latin typeface="Arial"/>
            </a:endParaRPr>
          </a:p>
        </p:txBody>
      </p:sp>
      <p:sp>
        <p:nvSpPr>
          <p:cNvPr id="58" name="PlaceHolder 2"/>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Умумий хола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Тери ранги ва холати (эластиклиги, тургори, сурулувчанлг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Шиллиқ қаватлар ранги ва ҳола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Ажралмаларга бахо бериш (тери, қин, уретра, кўз, қулоқ, оғиз шиллиқ қавати)</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Тери хосилаларига бахо бериш</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uz-Cyrl-UZ" sz="3200" spc="-1" strike="noStrike">
                <a:solidFill>
                  <a:srgbClr val="000000"/>
                </a:solidFill>
                <a:latin typeface="Arial"/>
              </a:rPr>
              <a:t>Терида бўладиган тошмаларга бахо бериш</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125</cp:lastModifiedBy>
  <dcterms:modified xsi:type="dcterms:W3CDTF">2007-12-03T03:20:06Z</dcterms:modified>
  <cp:revision>1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