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drumroll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FA1-FE71-44A6-A39B-D7133708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3ED-ECB5-4E37-B227-DCAD6C7A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8D8-0286-4CD3-9833-D682660C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D80-66E0-4C24-98D4-A6BE0203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0642-489D-4B6A-BC01-4B4A5E76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1901-7912-4364-A965-DB2C3549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0BD9-BFA7-4BC1-BBB1-06F69A7D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62CB-3D59-4F1D-8F65-9C92CD64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1E46-E75C-4CD2-AF9B-8408619F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F260-0264-4982-B599-AC34FC69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5277-56F2-47DD-B707-8F954ADF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31A-D752-4670-B59B-64B5FC06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B00E-1F13-4DB1-BD0E-61E4F19F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BDCE-D734-4319-837F-7C04E191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9AA6-A247-4CCB-B6B6-0D247BE8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A93E-110B-4722-A2A8-84466E70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74F8-886D-4FBD-84CB-CCCEF5EC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868D-2B3D-4E56-94DA-910A8443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9050-8A2D-428E-8186-0974D79C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E2A6-95D8-47F5-9BE9-73E50427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129D-BA66-4FD3-B14A-1CC4FA79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0D65-F3AE-4DC3-9068-F3687D34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DFA-7AE1-4DF3-950A-4C80B320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04CC7-4DFA-404C-BE7E-70EA3D0F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7359-0FD2-4B14-B4F2-BE4B542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F379-2653-47A3-9C0C-C5C27350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97F2-10E9-46BC-BD53-8A5951B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5339-2219-49E7-B160-69AAF0EC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6630-1C05-4132-8174-16867CE7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4EF8B-5E79-46F6-A879-FFC69602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2F71C-B0E2-4C93-A686-F4155B3F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D007-F31A-495E-BE28-FC8240BC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F231A-A1BC-4203-861B-B2E834B3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219-A6D7-4683-9FE4-5E3DC2D5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14DD-309B-4DE1-9A34-4A41790E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CC87-9A69-4114-8901-BF4F5FCE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9A83-4823-40A6-BA35-94243873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939E-3DC5-4556-B132-4BCE0189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CF66-B26A-4A84-AA3B-1C6DDB0F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DFAC-D706-4C15-9D55-AD29AA2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4B2DC-FCC9-413D-B646-72C23516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8DEFF-F68C-4199-ACE0-CF3E2867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9C8E-1E80-4667-85A6-525D4789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4EC-A1FC-4993-8C5C-00ECF477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BA7-BF4D-4CBC-8185-4AE35E0F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B65-9D41-4765-AC1B-F71344FD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364-CA0B-4024-96EF-2BABD5E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915-789D-47A8-9DA1-F1E32E8F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534D-85EC-4CFD-8CEC-CD3C4C37B0C2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7B29-1C7B-4A63-B945-C4314A369FE2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6F52-A665-452C-8C91-0CDE69307A17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FEB0-A162-418C-83DC-2F5B87FE5BEE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9"/>
          <p:cNvSpPr txBox="1"/>
          <p:nvPr/>
        </p:nvSpPr>
        <p:spPr>
          <a:xfrm>
            <a:off x="1692360" y="5300640"/>
            <a:ext cx="511164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ухоро-2006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324000" y="1484280"/>
            <a:ext cx="79102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4428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Юкумли касалликлар кафедраси</a:t>
            </a:r>
            <a:endParaRPr b="1" lang="en-US" sz="4400" spc="1" strike="noStrike">
              <a:ln w="4428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739880" y="26028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бу Али ибн Сино номидаги Бухоро Давлат тиббиёт институти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Calibri"/>
              </a:rPr>
              <a:t>Касалликнинг кечиш даврлар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ширин давр ( 7-21 кун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ошлангич даври ( 4-7 кун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вж олиш даври ( 9-10 кун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имптомларнинг суниш даври ( 10 – 12 кун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еконвалесценция</a:t>
            </a:r>
            <a:r>
              <a:rPr b="0" lang="uz-Cyrl-U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ник шаклла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ик шакл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нгил, уртача огирликда, ог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ипик шакл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зга илгамас белгили шакли, никобланган абортив шак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иник терминология ва ташхиснинг ифодаланиш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1680" y="2060640"/>
            <a:ext cx="85406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муналар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600" spc="-1" strike="noStrike">
                <a:solidFill>
                  <a:srgbClr val="000000"/>
                </a:solidFill>
                <a:latin typeface="Calibri"/>
              </a:rPr>
              <a:t>Корин тиф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/ сана, гемокультура/ уртача огирликда кечиш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ч терлама / Видал реакцияси 1:400/ енгил кечиш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ратиф А /сана, гемокультура/ уртача огирликда кечиш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 Black"/>
              </a:rPr>
              <a:t>ТЕРИ  РАНГИ  КЎРИНИШ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Беморни</a:t>
            </a:r>
            <a:r>
              <a:rPr b="0" lang="uz-Cyrl-UZ" sz="3600" spc="-1" strike="noStrike">
                <a:solidFill>
                  <a:srgbClr val="000000"/>
                </a:solidFill>
                <a:latin typeface="Arial Black"/>
              </a:rPr>
              <a:t>нг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териси касаллик бошлангандан рангпар, </a:t>
            </a:r>
            <a:r>
              <a:rPr b="0" lang="uz-Cyrl-UZ" sz="3600" spc="-1" strike="noStrike">
                <a:solidFill>
                  <a:srgbClr val="000000"/>
                </a:solidFill>
                <a:latin typeface="Arial Black"/>
              </a:rPr>
              <a:t>қ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уру</a:t>
            </a:r>
            <a:r>
              <a:rPr b="0" lang="uz-Cyrl-UZ" sz="3600" spc="-1" strike="noStrike">
                <a:solidFill>
                  <a:srgbClr val="000000"/>
                </a:solidFill>
                <a:latin typeface="Arial Black"/>
              </a:rPr>
              <a:t>қ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б</a:t>
            </a:r>
            <a:r>
              <a:rPr b="0" lang="uz-Cyrl-UZ" sz="3600" spc="-1" strike="noStrike">
                <a:solidFill>
                  <a:srgbClr val="000000"/>
                </a:solidFill>
                <a:latin typeface="Arial Black"/>
              </a:rPr>
              <a:t>ў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либ </a:t>
            </a:r>
            <a:r>
              <a:rPr b="0" lang="uz-Cyrl-UZ" sz="3600" spc="-1" strike="noStrike">
                <a:solidFill>
                  <a:srgbClr val="000000"/>
                </a:solidFill>
                <a:latin typeface="Arial Black"/>
              </a:rPr>
              <a:t>қ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олади ва  шундай </a:t>
            </a:r>
            <a:r>
              <a:rPr b="0" lang="uz-Cyrl-UZ" sz="3600" spc="-1" strike="noStrike">
                <a:solidFill>
                  <a:srgbClr val="000000"/>
                </a:solidFill>
                <a:latin typeface="Arial Black"/>
              </a:rPr>
              <a:t>ҳ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олда бутун касаллик давомида  са</a:t>
            </a:r>
            <a:r>
              <a:rPr b="0" lang="uz-Cyrl-UZ" sz="3600" spc="-1" strike="noStrike">
                <a:solidFill>
                  <a:srgbClr val="000000"/>
                </a:solidFill>
                <a:latin typeface="Arial Black"/>
              </a:rPr>
              <a:t>қ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ланиб </a:t>
            </a:r>
            <a:r>
              <a:rPr b="0" lang="uz-Cyrl-UZ" sz="3600" spc="-1" strike="noStrike">
                <a:solidFill>
                  <a:srgbClr val="000000"/>
                </a:solidFill>
                <a:latin typeface="Arial Black"/>
              </a:rPr>
              <a:t>қ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олади</a:t>
            </a:r>
            <a:r>
              <a:rPr b="0" lang="uz-Cyrl-UZ" sz="3600" spc="-1" strike="noStrike">
                <a:solidFill>
                  <a:srgbClr val="000000"/>
                </a:solidFill>
                <a:latin typeface="Arial Black"/>
              </a:rPr>
              <a:t>. К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асалликнинг 9-11 куни</a:t>
            </a:r>
            <a:r>
              <a:rPr b="0" lang="uz-Cyrl-UZ" sz="3600" spc="-1" strike="noStrike">
                <a:solidFill>
                  <a:srgbClr val="000000"/>
                </a:solidFill>
                <a:latin typeface="Arial Black"/>
              </a:rPr>
              <a:t> терида розеоллёзли тошма пайдо бўлади. Филиппович ва Филатов белгилари кузатилад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 flipV="1">
            <a:off x="-757080" y="4580280"/>
            <a:ext cx="1809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изим ва аъзолар томонидан узгаришл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Асаб тизими – умумхолсизлик, бош огриги, алахсираш ва бошкала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Нафас олиш тизими ( зотилжам, бронхит ) белгилар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Юрак кон томир тизими – нисбий брадикардия, пульс дикротияси, юрак тонлари бугиклиг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Меъда – ичак тракти тифсимон тил, корин капчиши, кулдираш, Падалка, Образцов – Гаусман белгиси, гепатоспленомегалия, илиоцекал сохада огрик, кабзият ич кетиш </a:t>
            </a:r>
            <a:r>
              <a:rPr b="0" lang="uz-Cyrl-UZ" sz="2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ан алмашиниш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Сийдик ажратиш тизими -  инфекцион токсик буйрак белгилари ( альбуминурия, цилиндриурия 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ннинг умумий куриниш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Лейкоп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сбий лимфоцитоз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эозинофил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йтропения</a:t>
            </a:r>
            <a:r>
              <a:rPr b="0" lang="uz-Cyrl-UZ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мбоцитоп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ЧТ ошиш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ПК асоратла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Ичакка боглик булга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чакдан кон кетиш ( 1-8%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чак тешилиши ( 0,3-8%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Ичакка боглик булмага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нфекцион токсик карахтли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ёток ярала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отилжам, отит, паротит, цистит ва бошкала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цидивл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цидивлар аксарият харорат меъёрлашганининг 1 – 2 хафтаси кузатилиши мумкин. Рецидив деб харорат меъёрлашганидан камида 48 соат утгандан сунг тана харорати 38 С дан юкори булиб 2 кун дан давом этиши хисоблан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1700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, сийдик, нажас умумий тахлиллари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 гурухи резус мослигини аниклаш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, сийдик, нажас экмаси /гемокультура уринокультура, капрокульту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зим топилса ут суюклиги экмаси /биликультура/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ологик текширувлар</a:t>
            </a: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 зардобида Видал реакцияси, РПГА га текшириш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шхисот услублар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иёсий ташхи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итма ва гепатолиенал синдром билан кечувчи касалликлар (кора оксок, Ку – истмаси, юк</a:t>
            </a:r>
            <a:r>
              <a:rPr b="0" lang="uz-Cyrl-UZ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ли мононуклеоз, лептоспироз, сальмонеллёз тифсимон шакли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шма билан кечувчи касалликла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 тошмали тиф, сепсис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итма ва респиратор синдроми билан кечувчи касалликлар (УРИ, зотилжам, сил 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0" y="420048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4400" spc="-1" strike="noStrike">
                <a:solidFill>
                  <a:srgbClr val="00ff00"/>
                </a:solidFill>
                <a:latin typeface="Arial"/>
              </a:rPr>
              <a:t>Юкумли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uz-Cyrl-UZ" sz="4400" spc="-1" strike="noStrike">
                <a:solidFill>
                  <a:srgbClr val="00ff00"/>
                </a:solidFill>
                <a:latin typeface="Arial"/>
              </a:rPr>
              <a:t> касалликлар </a:t>
            </a: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кафедраси мудири, тфн, доц.  </a:t>
            </a: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Облокулов А.Р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468360" y="981000"/>
            <a:ext cx="8351640" cy="32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взу:Корин тифи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69" name="Picture 10" descr="office30"/>
          <p:cNvPicPr/>
          <p:nvPr/>
        </p:nvPicPr>
        <p:blipFill>
          <a:blip r:embed="rId1"/>
          <a:stretch/>
        </p:blipFill>
        <p:spPr>
          <a:xfrm>
            <a:off x="3419640" y="1773360"/>
            <a:ext cx="23763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ХМИНИЙ ДАВОЛАШ ТИЗМАС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хез, тушакли реж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отроп даво воситалари левомицитин сукцинат, амоксацилин, бесепт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тогенетик даво воситала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1.Умумий захарланишга қарши: 5% ли глюкоза, Рингер эритмаси, гемодез, «Ацесоль», «Трисол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2.Кон ва кон препаратлари /кон, плазма зардоби/ ва кон урнини босувчилар /альбумин, инфезол, желатинол, стабизол/ препаратла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3.Гармонотерапия /предниз</a:t>
            </a:r>
            <a:r>
              <a:rPr b="0" lang="uz-Cyrl-UZ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н, дексазон, гидрокартизон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4.Витаминотерапия /С, В1, В6, В12, РР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соратларни давола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1 Ичакдан кон кетишни даволаш /осойишталаш, коринда муз халтаси, кон, аминокапрон кислотаси, фибриноген, желатина, Са 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, викасол, дицинон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екцион-токсик карахтлик давоси /куйиладиган инфузион эритмалар хажмини ошириш, гормонотерапия, протеолитик ферментлар ингибиторлари, юрак гликозидлари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окардит давоси /3-6 хафталик тушакли режим, кофеин, стрихнин, калий оротат, панангин, кокарбоксил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8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8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испансер назор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ПК реконвалесцентлари касалхонадан чикарилгандан сунг 3 ой мобайнида нажас, сийдик, ут суюклигини бактериологик текшируви назорат билан диспансер назоратида булади. Сунгра 2 йил мобайнида, озик овкат корхоналарида ишловчилар ва уларга тенглаштирилганлар 6 йил мобайнида ДСЭМ ида назоратда булиша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пидемияга карши тадбирл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асаллик манбаи ( касал ва бактерия ташувчи ) га нисбатан – вактли аниклаш, вактли ташхислаш ва ажратиш, касалхонага юбориш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Юкиш механизми, йуллари ва омилларига нисбатан – дезинфе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улокотлиларга нисбатан – 21 кун мобайнида кунлик термометрия хамшира томонида</a:t>
            </a:r>
            <a:r>
              <a:rPr b="0" lang="uz-Cyrl-UZ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хафталик курик врач томонидан уткарилиб</a:t>
            </a:r>
            <a:r>
              <a:rPr b="0" lang="uz-Cyrl-UZ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ийдик ва нажас бактериологик текширувдан утка</a:t>
            </a:r>
            <a:r>
              <a:rPr b="0" lang="uz-Cyrl-UZ" sz="2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а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Calibri"/>
              </a:rPr>
              <a:t>Касалликнинг  олдини  оли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169236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42920" y="192852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бзавот ва меваларни ейишдан олдин обдон водопровод сувида ювиш с</a:t>
            </a:r>
            <a:r>
              <a:rPr b="0" lang="uz-Cyrl-UZ" sz="2800" spc="-1" strike="noStrike">
                <a:solidFill>
                  <a:srgbClr val="000000"/>
                </a:solidFill>
                <a:latin typeface="Arial"/>
              </a:rPr>
              <a:t>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гра </a:t>
            </a:r>
            <a:r>
              <a:rPr b="0" lang="uz-Cyrl-UZ" sz="2800" spc="-1" strike="noStrike">
                <a:solidFill>
                  <a:srgbClr val="000000"/>
                </a:solidFill>
                <a:latin typeface="Arial"/>
              </a:rPr>
              <a:t>қ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йнатилган сув билан чайиб ташлаш </a:t>
            </a:r>
            <a:endParaRPr b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 паратифи кечиш хусусиятлар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Яширин давр давомийлиги 8 – 10 ку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асаллик уткир йутал ва катарал белгилар билан бошланад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емор юзи ва кузи кизарган, лабида герпетик тош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Тошма вактли (4–7) юзага келиб, турлича тавсифли ( разеолёз, разеолёз – папулёз, петехиал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мумий захарланиш белгилари паст даражада, конда характерли узгаришлар кузатилмай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паратифи кечиш хусусиятлар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Яширин давр давомийлиги 14 – 21 ку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асаллик уткир гастроэнтеритик белгилари </a:t>
            </a:r>
            <a:r>
              <a:rPr b="0" lang="uz-Cyrl-UZ" sz="2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ан бошланад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еморни жунжикиш, мушакларда огрик, терлаш безовта килад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Тошма аксарият холларда кузатилмайди, баъзан 4–7 кун тошад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иферик конда лейкоцитоз, лимфопения, эозинофиллар аниклана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3"/>
          <p:cNvSpPr txBox="1"/>
          <p:nvPr/>
        </p:nvSpPr>
        <p:spPr>
          <a:xfrm>
            <a:off x="642960" y="-285840"/>
            <a:ext cx="7561080" cy="400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ътиборингиз учун рахмат!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horz"/>
    <p:sndAc>
      <p:stSnd>
        <p:snd r:embed="rId3" name="drumroll.wav"/>
      </p:stSnd>
    </p:sndAc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600" spc="-1" strike="noStrike">
                <a:solidFill>
                  <a:srgbClr val="000000"/>
                </a:solidFill>
                <a:latin typeface="Calibri"/>
              </a:rPr>
              <a:t>Корин тифи ва А, В паратифлар касалланиш динамикас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Object 6"/>
          <p:cNvGraphicFramePr/>
          <p:nvPr/>
        </p:nvGraphicFramePr>
        <p:xfrm>
          <a:off x="0" y="333360"/>
          <a:ext cx="9144000" cy="70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аъриф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71640" y="1196640"/>
            <a:ext cx="741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uz-Cyrl-UZ" sz="3600" spc="-1" strike="noStrike">
                <a:solidFill>
                  <a:srgbClr val="898989"/>
                </a:solidFill>
                <a:latin typeface="Calibri"/>
              </a:rPr>
              <a:t>Корин тифи</a:t>
            </a: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 – нажас о</a:t>
            </a:r>
            <a:r>
              <a:rPr b="0" lang="uz-Cyrl-UZ" sz="3600" spc="-1" strike="noStrike">
                <a:solidFill>
                  <a:srgbClr val="898989"/>
                </a:solidFill>
                <a:latin typeface="Calibri"/>
              </a:rPr>
              <a:t>ғ</a:t>
            </a: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из механизми билан ю</a:t>
            </a:r>
            <a:r>
              <a:rPr b="0" lang="uz-Cyrl-UZ" sz="3600" spc="-1" strike="noStrike">
                <a:solidFill>
                  <a:srgbClr val="898989"/>
                </a:solidFill>
                <a:latin typeface="Calibri"/>
              </a:rPr>
              <a:t>қ</a:t>
            </a: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увчи </a:t>
            </a:r>
            <a:r>
              <a:rPr b="0" lang="uz-Cyrl-UZ" sz="3600" spc="-1" strike="noStrike">
                <a:solidFill>
                  <a:srgbClr val="898989"/>
                </a:solidFill>
                <a:latin typeface="Calibri"/>
              </a:rPr>
              <a:t>ў</a:t>
            </a: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ткир ю</a:t>
            </a:r>
            <a:r>
              <a:rPr b="0" lang="uz-Cyrl-UZ" sz="3600" spc="-1" strike="noStrike">
                <a:solidFill>
                  <a:srgbClr val="898989"/>
                </a:solidFill>
                <a:latin typeface="Calibri"/>
              </a:rPr>
              <a:t>қ</a:t>
            </a: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умли касаллик б</a:t>
            </a:r>
            <a:r>
              <a:rPr b="0" lang="uz-Cyrl-UZ" sz="3600" spc="-1" strike="noStrike">
                <a:solidFill>
                  <a:srgbClr val="898989"/>
                </a:solidFill>
                <a:latin typeface="Calibri"/>
              </a:rPr>
              <a:t>ў</a:t>
            </a: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либ, иситма, бактериемия, умумий за</a:t>
            </a:r>
            <a:r>
              <a:rPr b="0" lang="uz-Cyrl-UZ" sz="3600" spc="-1" strike="noStrike">
                <a:solidFill>
                  <a:srgbClr val="898989"/>
                </a:solidFill>
                <a:latin typeface="Calibri"/>
              </a:rPr>
              <a:t>ҳ</a:t>
            </a: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арланиш, ичак лимфоид аппаратининг зарарланиш белгилари ва ингичка ичакда яралар, терида розеолёз тошмалар тошиши билан тавсифланади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иологияс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1439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Корин тиф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таё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аси </a:t>
            </a:r>
            <a:r>
              <a:rPr b="0" lang="ru-RU" sz="2500" spc="-1" strike="noStrike">
                <a:solidFill>
                  <a:srgbClr val="ff0066"/>
                </a:solidFill>
                <a:latin typeface="Calibri"/>
              </a:rPr>
              <a:t>Salmonell</a:t>
            </a: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a Typhi</a:t>
            </a:r>
            <a:r>
              <a:rPr b="0" lang="ru-RU" sz="2500" spc="-1" strike="noStrike">
                <a:solidFill>
                  <a:srgbClr val="ff0066"/>
                </a:solidFill>
                <a:latin typeface="Calibri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Erterobacteriacese оиласига мансуб, фа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т одам учун зарарли 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ҳ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обланади. </a:t>
            </a:r>
            <a:r>
              <a:rPr b="0" lang="ru-RU" sz="2500" spc="-1" strike="noStrike">
                <a:solidFill>
                  <a:srgbClr val="ff0066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al</a:t>
            </a:r>
            <a:r>
              <a:rPr b="0" lang="ru-RU" sz="2500" spc="-1" strike="noStrike">
                <a:solidFill>
                  <a:srgbClr val="ff0066"/>
                </a:solidFill>
                <a:latin typeface="Calibri"/>
              </a:rPr>
              <a:t>.typhi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таё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а шаклида б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ў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иб, узунлиги 1-3 мкм, диаметри эса 0,5-0,8 мкмни ташкил этади, хивчинлари б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ў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ганлиги туфайли 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ҳ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ракатчан, спора ва капсула 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ҳ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ил 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лмайди, грамм манфий, 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ҳ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мма анилин б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ўёқ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ари билан яхши б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ў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ялади, одатдаги ози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у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ҳ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тларида pH = 7,2 - 7,4 га тенг б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ў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ган шароитда </a:t>
            </a:r>
            <a:r>
              <a:rPr b="0" lang="uz-Cyrl-UZ" sz="2500" spc="-1" strike="noStrike">
                <a:solidFill>
                  <a:srgbClr val="000000"/>
                </a:solidFill>
                <a:latin typeface="Calibri"/>
              </a:rPr>
              <a:t>ў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д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  <p:sndAc>
      <p:stSnd>
        <p:snd r:embed="rId1" name="drumroll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Унинг 4та антигени тофовут </a:t>
            </a:r>
            <a:r>
              <a:rPr b="0" lang="uz-Cyrl-UZ" sz="4000" spc="-1" strike="noStrike">
                <a:solidFill>
                  <a:srgbClr val="ff3300"/>
                </a:solidFill>
                <a:latin typeface="Times New Roman"/>
              </a:rPr>
              <a:t>қилинади</a:t>
            </a:r>
            <a:r>
              <a:rPr b="0" lang="uz-Cyrl-UZ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-</a:t>
            </a:r>
            <a:r>
              <a:rPr b="0" lang="uz-Cyrl-UZ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антиг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сси</a:t>
            </a:r>
            <a:r>
              <a:rPr b="0" lang="uz-Cyrl-UZ" sz="3200" spc="-1" strike="noStrike">
                <a:solidFill>
                  <a:srgbClr val="000000"/>
                </a:solidFill>
                <a:latin typeface="Times New Roman"/>
              </a:rPr>
              <a:t>қликка чидамли соматик антиген бўлиб, диагностик аҳамиятга э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ff3300"/>
                </a:solidFill>
                <a:latin typeface="Times New Roman"/>
              </a:rPr>
              <a:t>Н-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антиг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сси</a:t>
            </a:r>
            <a:r>
              <a:rPr b="0" lang="uz-Cyrl-UZ" sz="3200" spc="-1" strike="noStrike">
                <a:solidFill>
                  <a:srgbClr val="000000"/>
                </a:solidFill>
                <a:latin typeface="Times New Roman"/>
              </a:rPr>
              <a:t>қликка чидамсиз мураккаб мукополисахарид комплексидан ташкил топг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Vi-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антиген</a:t>
            </a:r>
            <a:r>
              <a:rPr b="0" lang="uz-Cyrl-UZ" sz="3200" spc="-1" strike="noStrike">
                <a:solidFill>
                  <a:srgbClr val="000000"/>
                </a:solidFill>
                <a:latin typeface="Times New Roman"/>
              </a:rPr>
              <a:t> Н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ген </a:t>
            </a:r>
            <a:r>
              <a:rPr b="0" lang="uz-Cyrl-UZ" sz="3200" spc="-1" strike="noStrike">
                <a:solidFill>
                  <a:srgbClr val="000000"/>
                </a:solidFill>
                <a:latin typeface="Times New Roman"/>
              </a:rPr>
              <a:t>таркибига кириб, айрим олимлар фикрича қўзғатувчининг вирулентлигини кўрсатади, аммо бу ўз тасдиғини топм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ff3300"/>
                </a:solidFill>
                <a:latin typeface="Times New Roman"/>
              </a:rPr>
              <a:t>К-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антиген</a:t>
            </a:r>
            <a:r>
              <a:rPr b="0" lang="uz-Cyrl-UZ" sz="3200" spc="-1" strike="noStrike">
                <a:solidFill>
                  <a:srgbClr val="000000"/>
                </a:solidFill>
                <a:latin typeface="Times New Roman"/>
              </a:rPr>
              <a:t> эса оқсил табиатли бирикма бўлиб, қўзғатувчининг ҳужайра ичи кўпайишини таъминлай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Organization Chart 6"/>
          <p:cNvGrpSpPr/>
          <p:nvPr/>
        </p:nvGrpSpPr>
        <p:grpSpPr>
          <a:xfrm>
            <a:off x="431640" y="1916280"/>
            <a:ext cx="8208360" cy="4158000"/>
            <a:chOff x="431640" y="1916280"/>
            <a:chExt cx="8208360" cy="4158000"/>
          </a:xfrm>
        </p:grpSpPr>
        <p:cxnSp>
          <p:nvCxnSpPr>
            <p:cNvPr id="179" name="_s2052"/>
            <p:cNvCxnSpPr>
              <a:stCxn id="180" idx="0"/>
              <a:endCxn id="181" idx="2"/>
            </p:cNvCxnSpPr>
            <p:nvPr/>
          </p:nvCxnSpPr>
          <p:spPr>
            <a:xfrm flipV="1" rot="16200000">
              <a:off x="5556240" y="2558160"/>
              <a:ext cx="832320" cy="2873520"/>
            </a:xfrm>
            <a:prstGeom prst="bentConnector3">
              <a:avLst>
                <a:gd name="adj1" fmla="val 9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2053"/>
            <p:cNvCxnSpPr>
              <a:stCxn id="183" idx="0"/>
              <a:endCxn id="181" idx="2"/>
            </p:cNvCxnSpPr>
            <p:nvPr/>
          </p:nvCxnSpPr>
          <p:spPr>
            <a:xfrm flipV="1">
              <a:off x="4536000" y="3579120"/>
              <a:ext cx="3600" cy="83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2054"/>
            <p:cNvCxnSpPr>
              <a:stCxn id="185" idx="0"/>
              <a:endCxn id="181" idx="2"/>
            </p:cNvCxnSpPr>
            <p:nvPr/>
          </p:nvCxnSpPr>
          <p:spPr>
            <a:xfrm flipH="1" flipV="1" rot="5400000">
              <a:off x="2683080" y="2558520"/>
              <a:ext cx="832320" cy="2873520"/>
            </a:xfrm>
            <a:prstGeom prst="bentConnector3">
              <a:avLst>
                <a:gd name="adj1" fmla="val 9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1" name="_s2055"/>
            <p:cNvSpPr/>
            <p:nvPr/>
          </p:nvSpPr>
          <p:spPr>
            <a:xfrm>
              <a:off x="3304440" y="1916280"/>
              <a:ext cx="2462400" cy="16632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1f497d"/>
                  </a:solidFill>
                  <a:latin typeface="Arial"/>
                </a:rPr>
                <a:t>Касаллик манбаи</a:t>
              </a:r>
              <a:endParaRPr b="1" lang="en-US" sz="21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85" name="_s2056"/>
            <p:cNvSpPr/>
            <p:nvPr/>
          </p:nvSpPr>
          <p:spPr>
            <a:xfrm>
              <a:off x="431640" y="4411080"/>
              <a:ext cx="2462400" cy="166320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1f497d"/>
                  </a:solidFill>
                  <a:latin typeface="Arial"/>
                </a:rPr>
                <a:t>Касал одамлар</a:t>
              </a:r>
              <a:endParaRPr b="1" lang="en-US" sz="21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83" name="_s2057"/>
            <p:cNvSpPr/>
            <p:nvPr/>
          </p:nvSpPr>
          <p:spPr>
            <a:xfrm>
              <a:off x="3304440" y="4411080"/>
              <a:ext cx="2462400" cy="16632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1f497d"/>
                  </a:solidFill>
                  <a:latin typeface="Arial"/>
                </a:rPr>
                <a:t>Реконвалес-</a:t>
              </a:r>
              <a:endParaRPr b="1" lang="en-US" sz="2100" spc="-1" strike="noStrike">
                <a:solidFill>
                  <a:srgbClr val="1f497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1f497d"/>
                  </a:solidFill>
                  <a:latin typeface="Arial"/>
                </a:rPr>
                <a:t>центлар</a:t>
              </a:r>
              <a:endParaRPr b="1" lang="en-US" sz="21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80" name="_s2058"/>
            <p:cNvSpPr/>
            <p:nvPr/>
          </p:nvSpPr>
          <p:spPr>
            <a:xfrm>
              <a:off x="6177600" y="4411080"/>
              <a:ext cx="2462400" cy="166320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1f497d"/>
                  </a:solidFill>
                  <a:latin typeface="Arial"/>
                </a:rPr>
                <a:t>Бактерия </a:t>
              </a:r>
              <a:endParaRPr b="1" lang="en-US" sz="2100" spc="-1" strike="noStrike">
                <a:solidFill>
                  <a:srgbClr val="1f497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1f497d"/>
                  </a:solidFill>
                  <a:latin typeface="Arial"/>
                </a:rPr>
                <a:t>ташувчилар</a:t>
              </a:r>
              <a:endParaRPr b="1" lang="en-US" sz="21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ДЕМИОЛОГИЯ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  <p:sndAc>
      <p:stSnd>
        <p:snd r:embed="rId1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12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Касаллик касал одамдан </a:t>
            </a:r>
            <a:r>
              <a:rPr b="1" i="1" lang="uz-Cyrl-UZ" sz="34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уйидаги й</a:t>
            </a:r>
            <a:r>
              <a:rPr b="1" i="1" lang="uz-Cyrl-UZ" sz="3400" spc="-1" strike="noStrike">
                <a:solidFill>
                  <a:srgbClr val="000000"/>
                </a:solidFill>
                <a:latin typeface="Calibri"/>
              </a:rPr>
              <a:t>ў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ллар билан ю</a:t>
            </a:r>
            <a:r>
              <a:rPr b="1" i="1" lang="uz-Cyrl-UZ" sz="34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ади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844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маиший муло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й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ў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бемор билан муло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да б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ў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ганда, беморнинг у ёки бу буюми ор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йнатилмаган ва ари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уви истеъмоли ор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сабзавот ма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ҳ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лотлари ва меваларни ювмасдан истеъмол 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лиш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рухсат этилмаган очи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ув  хавзаларида чумилиш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шахсий гигиена </a:t>
            </a:r>
            <a:r>
              <a:rPr b="1" lang="uz-Cyrl-UZ" sz="2800" spc="-1" strike="noStrike">
                <a:solidFill>
                  <a:srgbClr val="000000"/>
                </a:solidFill>
                <a:latin typeface="Calibri"/>
              </a:rPr>
              <a:t>қ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идаларига риоя килмасли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Calibri"/>
              </a:rPr>
              <a:t>Патогене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Микробларнинг организмга тушиш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Лимфаденит, лимфанго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икробнинг  конга таркалиш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 Организмнинг микроб захарлари билан захарлани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Микробларнинг тукима ва аъз</a:t>
            </a:r>
            <a:r>
              <a:rPr b="0" lang="uz-Cyrl-UZ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рига таркалиш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Микробларнинг  кондан ва тукималардан ажралиш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Аллергик узгаришл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. Иммунитетнинг пайдо булиши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8:46:34Z</dcterms:created>
  <dc:creator>Рахматов Олимхон Бобомуродович</dc:creator>
  <dc:description/>
  <dc:language>en-US</dc:language>
  <cp:lastModifiedBy>Buzich</cp:lastModifiedBy>
  <dcterms:modified xsi:type="dcterms:W3CDTF">2007-12-07T21:51:40Z</dcterms:modified>
  <cp:revision>41</cp:revision>
  <dc:subject/>
  <dc:title>Слайд 1</dc:title>
</cp:coreProperties>
</file>