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5FE-3355-4A7D-94D9-F77F3602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319-56F2-4427-B4AC-7E4FD47B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9B7-8A7B-4DF8-83EC-46CE25B8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5A1-D3B0-444E-A0A8-DD90E92D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A8F-99B2-4FE0-9B4E-E0B2CDB5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831-1099-40B9-AD3C-829A33D0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5BD-D38C-44D0-83CA-9BA266FD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51A-B130-4B7E-839E-9B6BC265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4D0-1383-4615-BC80-52CFDEB3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A34-97B7-4DAB-9E3F-5F45394B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2F5-9ECE-4907-98E3-243501B8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3E9-CE2C-4214-9496-F4AD8B9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1F55-CCE7-4E37-85DB-086CAA1B5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Мавзу: Дерматозонозл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Тузувчи юқумли касалликлар,фтизиатрия ва тери-таносил касалликлари кафедраси доценти, О.Б.Рахм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Асоратлар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Лимфанг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Лимфааден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Йирингла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Лихенифик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Экземат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Невротик реакциял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Қўтирнинг диагностика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Қўтир каналидан игна ёрдамида каналарни чиқариб олиб микроскоп остида кўри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Терининг шох қаватидан юпқа кесиб олиб материал тайёрлаб микроскоп остида кўри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Теридаги тошмалардан қават қават қилиб кесиб олиш усули билан материал тайёрлаш ва микроскоп остида кўри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Теридан ишқорли материал тайёрлаш усули, теридаги тошма устига 10% ли ишқорли эритма қуйиб 2 минутга қолдирилади ва Юмшаган теридан қиринди олиб текширил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40% сут кислотасининг сувдаги эритмасини тошмалар устига бир томчи томизиб 5 мин.дан кейин қиринди олиб микроскоп остида кўриш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Қўтир даво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000000"/>
                </a:solidFill>
                <a:latin typeface="Arial"/>
              </a:rPr>
              <a:t>20% бензилбензоатнинг сувли-совунли эритмаси билан баданни арти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000000"/>
                </a:solidFill>
                <a:latin typeface="Arial"/>
              </a:rPr>
              <a:t>60% ли гипосульфат натрий билан баданни арти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000000"/>
                </a:solidFill>
                <a:latin typeface="Arial"/>
              </a:rPr>
              <a:t>6% ли солянний кислота билан арти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000000"/>
                </a:solidFill>
                <a:latin typeface="Arial"/>
              </a:rPr>
              <a:t>33% ли олтингугурт малх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000000"/>
                </a:solidFill>
                <a:latin typeface="Arial"/>
              </a:rPr>
              <a:t>Вилькинсон малх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000000"/>
                </a:solidFill>
                <a:latin typeface="Arial"/>
              </a:rPr>
              <a:t>Полисульфид лин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z-Cyrl-UZ" sz="2800" spc="-1" strike="noStrike">
                <a:solidFill>
                  <a:srgbClr val="000000"/>
                </a:solidFill>
                <a:latin typeface="Arial"/>
              </a:rPr>
              <a:t>К” совунинг 5%ли эмулсияси билан баданни арти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Битлаш (педикулёз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Экзопаразитлар чақиши натижасида дерматит келтириб чиқара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Турлар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Қов сохаси бит касалл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Баданнинг бит касалл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Бош бит касалл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Одамлар учун битларнинг вирусларни, риккетсияларни ва бактерияларни ташиб юрувчанлиги ва ўтказувчанлиги хавфли хисоблан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Битланинг сўлагида хам каналарникидай токсинлар мавжуд бўлиб, қичимага ва дерматитга сабабчи бўл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Битлашни даво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Керосинни ўсимлик мойи билан аралаштириб сочларни хўллаб қўйи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Уксусга намлатилган кичик тишли тароқ билан тараб тури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10% ли бензилбензоат билан юви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5400" spc="-1" strike="noStrike">
                <a:solidFill>
                  <a:srgbClr val="000000"/>
                </a:solidFill>
                <a:latin typeface="Arial"/>
              </a:rPr>
              <a:t>Қўт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Қузғатувчис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coptes skabi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Эндопаразитар ёки антропофил (фақат одамларда касаллик чақирув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Экзопаразитар ёки зооантропофил (хайвонларда ва одамларда касаллик чақирувчи) турларга бўлина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Қўзғатувчисининг ўлч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Урғочисининг узунлиги 0.4-0.45 мм эни 0.25-0.38 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Эркаги 0.2-0.3 ва 0.14-0.18 м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Эркак каналар урчигандан кейин ўл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Урғочилари тери ичига кириб 5-10 мм гача йўл хосил қилади ва  6-8 хафта ичида 50 тагача уруғ қў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6 кундан кейин уруғдан личинкалар хосил бўлади ва 14-15 кун ичида етилган каналарга айланади. Улар 1-2 ой яшайд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Қўтир каналларидан чиқган каналар 5-15 кунгача ўзларининг хаёт фаолиятини сақлай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Юқиш йўлл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Бемор одам билан ёки хайвон билан бевосита мулоқ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Воситали юқи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Клиника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000" spc="-1" strike="noStrike">
                <a:solidFill>
                  <a:srgbClr val="000000"/>
                </a:solidFill>
                <a:latin typeface="Arial"/>
              </a:rPr>
              <a:t>Яширин давр 3-7 кундан 10-12 кунгача, баъзи холларда 1-1.5 ойгача чўзилиши мумки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4400" spc="-1" strike="noStrike">
                <a:solidFill>
                  <a:srgbClr val="000000"/>
                </a:solidFill>
                <a:latin typeface="Arial"/>
              </a:rPr>
              <a:t>Клиник белгил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Асосий белгиси қичини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Кўпроқ мучаларнинг букувчи қисмида, бармоқлар орасида жойлаш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Каналарнинг терига кириш ва чиқиш қисмида хар хил ўлчамдаги тугунчалар, пуфакчала ва қаварчиқлар кузатил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z-Cyrl-UZ" sz="3200" spc="-1" strike="noStrike">
                <a:solidFill>
                  <a:srgbClr val="000000"/>
                </a:solidFill>
                <a:latin typeface="Arial"/>
              </a:rPr>
              <a:t>қўтир каналининг охирги қисмида юзароқ жойлашган пуфакча жойлашади, шу пуфакчанинг ичида кана жойлашад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zich</cp:lastModifiedBy>
  <dcterms:modified xsi:type="dcterms:W3CDTF">2007-12-07T21:52:2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